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02B-E86D-477A-8089-6CEEE681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81B-2D80-4286-8AA8-C270E15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ACE-35A2-4940-B64A-B79FB010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C5B-42D8-451B-8433-0EA4CC71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CF2-1DCD-4C42-B485-13A6D7D2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B2C-C714-41DB-9FAB-A2856ED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04F-50B1-4764-8C1B-C220F082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A0C-EE69-4D0D-B7EC-5A68DA7B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C98-7705-498A-A9F3-FA716E9E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BF6-2D90-45EA-AED2-FC22CF2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DE6-951D-431B-9D48-F76558B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1D3-8F5F-460B-986F-A1AE6E8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749F-4BCA-4CFA-A2E0-7680D343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SY97—Wav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676520"/>
          <a:ext cx="7924680" cy="3684600"/>
        </p:xfrm>
        <a:graphic>
          <a:graphicData uri="http://schemas.openxmlformats.org/drawingml/2006/table">
            <a:tbl>
              <a:tblPr/>
              <a:tblGrid>
                <a:gridCol w="1576440"/>
                <a:gridCol w="887400"/>
                <a:gridCol w="736560"/>
                <a:gridCol w="609480"/>
                <a:gridCol w="609480"/>
                <a:gridCol w="762120"/>
                <a:gridCol w="609480"/>
                <a:gridCol w="609840"/>
                <a:gridCol w="838080"/>
                <a:gridCol w="685800"/>
              </a:tblGrid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section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ement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809880" y="2209680"/>
            <a:ext cx="533520" cy="381240"/>
          </a:xfrm>
          <a:prstGeom prst="ellipse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09680"/>
            <a:ext cx="533520" cy="381240"/>
          </a:xfrm>
          <a:prstGeom prst="ellipse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209680"/>
            <a:ext cx="533520" cy="381240"/>
          </a:xfrm>
          <a:prstGeom prst="ellipse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1676520"/>
            <a:ext cx="2209680" cy="3657600"/>
          </a:xfrm>
          <a:prstGeom prst="rect">
            <a:avLst/>
          </a:prstGeom>
          <a:solidFill>
            <a:srgbClr val="80808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676520"/>
            <a:ext cx="1752480" cy="304560"/>
          </a:xfrm>
          <a:prstGeom prst="ellipse">
            <a:avLst/>
          </a:prstGeom>
          <a:solidFill>
            <a:srgbClr val="ff66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4520" y="836640"/>
            <a:ext cx="76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Father’s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351160"/>
          <a:ext cx="7829280" cy="3529080"/>
        </p:xfrm>
        <a:graphic>
          <a:graphicData uri="http://schemas.openxmlformats.org/drawingml/2006/table">
            <a:tbl>
              <a:tblPr/>
              <a:tblGrid>
                <a:gridCol w="8604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’s 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HS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53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3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: some thru 4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5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4 years of colle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9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50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124080"/>
            <a:ext cx="838080" cy="259092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38200" y="624852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ore educated bio-dads monit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514600" y="5105520"/>
            <a:ext cx="3808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76720"/>
            <a:ext cx="838080" cy="259056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85840" y="1752480"/>
            <a:ext cx="11430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9000" y="1219320"/>
            <a:ext cx="6423120" cy="703800"/>
          </a:xfrm>
          <a:prstGeom prst="rect">
            <a:avLst/>
          </a:prstGeom>
          <a:solidFill>
            <a:srgbClr val="ff0000">
              <a:alpha val="18000"/>
            </a:srgbClr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ep fathers monitor far less than bio-dads—regard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f education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971800"/>
            <a:ext cx="5410080" cy="1066680"/>
          </a:xfrm>
          <a:prstGeom prst="ellipse">
            <a:avLst/>
          </a:prstGeom>
          <a:solidFill>
            <a:srgbClr val="bbe0e3">
              <a:alpha val="22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61722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942160"/>
            <a:ext cx="3429000" cy="916920"/>
          </a:xfrm>
          <a:prstGeom prst="rect">
            <a:avLst/>
          </a:prstGeom>
          <a:solidFill>
            <a:srgbClr val="ff0000">
              <a:alpha val="20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o-dads (lower ed) monitor far more than do others except father like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4038480"/>
            <a:ext cx="30456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3200400" cy="457200"/>
          </a:xfrm>
          <a:prstGeom prst="rect">
            <a:avLst/>
          </a:prstGeom>
          <a:solidFill>
            <a:srgbClr val="ff0000">
              <a:alpha val="15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5040" y="1446480"/>
            <a:ext cx="66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Sex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0880" y="25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778120"/>
          <a:ext cx="7600680" cy="2003400"/>
        </p:xfrm>
        <a:graphic>
          <a:graphicData uri="http://schemas.openxmlformats.org/drawingml/2006/table">
            <a:tbl>
              <a:tblPr/>
              <a:tblGrid>
                <a:gridCol w="6318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 of Ch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581280"/>
            <a:ext cx="609480" cy="838440"/>
          </a:xfrm>
          <a:prstGeom prst="ellipse">
            <a:avLst/>
          </a:prstGeom>
          <a:solidFill>
            <a:srgbClr val="ff00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581280"/>
            <a:ext cx="609480" cy="838440"/>
          </a:xfrm>
          <a:prstGeom prst="ellips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581280"/>
            <a:ext cx="609480" cy="838440"/>
          </a:xfrm>
          <a:prstGeom prst="ellips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819520"/>
            <a:ext cx="2819160" cy="53316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657600"/>
            <a:ext cx="609480" cy="838080"/>
          </a:xfrm>
          <a:prstGeom prst="ellipse">
            <a:avLst/>
          </a:prstGeom>
          <a:solidFill>
            <a:srgbClr val="ff00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971800"/>
            <a:ext cx="4572000" cy="60948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8680" y="5065560"/>
            <a:ext cx="709200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re is no difference with regard to gender of child and home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thers monitor– across types of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00" y="5867280"/>
            <a:ext cx="7815960" cy="36828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o- dads are reported to monitor significantly more than step or cohab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80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3240" y="6284880"/>
            <a:ext cx="6686640" cy="368280"/>
          </a:xfrm>
          <a:prstGeom prst="rect">
            <a:avLst/>
          </a:prstGeom>
          <a:solidFill>
            <a:srgbClr val="ff0000">
              <a:alpha val="18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ever, bio-dads are not diff then father-like men in this reg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3480" y="913320"/>
            <a:ext cx="79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ild’s Affection for Father – Father Type by 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90880" y="2076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7829280" cy="3529080"/>
        </p:xfrm>
        <a:graphic>
          <a:graphicData uri="http://schemas.openxmlformats.org/drawingml/2006/table">
            <a:tbl>
              <a:tblPr/>
              <a:tblGrid>
                <a:gridCol w="8604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’s 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t HS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: some thru 4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4 years of colle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2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0" y="50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124080"/>
            <a:ext cx="990360" cy="289584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4240" y="1905120"/>
            <a:ext cx="1697040" cy="1523880"/>
          </a:xfrm>
          <a:custGeom>
            <a:avLst/>
            <a:gdLst/>
            <a:ahLst/>
            <a:rect l="l" t="t" r="r" b="b"/>
            <a:pathLst>
              <a:path w="936" h="1173">
                <a:moveTo>
                  <a:pt x="936" y="0"/>
                </a:moveTo>
                <a:cubicBezTo>
                  <a:pt x="803" y="49"/>
                  <a:pt x="260" y="101"/>
                  <a:pt x="130" y="297"/>
                </a:cubicBezTo>
                <a:cubicBezTo>
                  <a:pt x="0" y="493"/>
                  <a:pt x="152" y="991"/>
                  <a:pt x="157" y="1173"/>
                </a:cubicBezTo>
              </a:path>
            </a:pathLst>
          </a:custGeom>
          <a:noFill/>
          <a:ln w="44280">
            <a:solidFill>
              <a:srgbClr val="ff0000"/>
            </a:solidFill>
            <a:prstDash val="lgDash"/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1600200"/>
            <a:ext cx="2895480" cy="520200"/>
          </a:xfrm>
          <a:prstGeom prst="rect">
            <a:avLst/>
          </a:prstGeom>
          <a:solidFill>
            <a:srgbClr val="ff0000">
              <a:alpha val="18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ather with higher ed--- reported to be liked more by t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200400"/>
            <a:ext cx="990360" cy="289548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752480"/>
            <a:ext cx="3276360" cy="2210040"/>
          </a:xfrm>
          <a:custGeom>
            <a:avLst/>
            <a:gdLst/>
            <a:ahLst/>
            <a:rect l="l" t="t" r="r" b="b"/>
            <a:pathLst>
              <a:path w="936" h="1173">
                <a:moveTo>
                  <a:pt x="936" y="0"/>
                </a:moveTo>
                <a:cubicBezTo>
                  <a:pt x="803" y="49"/>
                  <a:pt x="260" y="101"/>
                  <a:pt x="130" y="297"/>
                </a:cubicBezTo>
                <a:cubicBezTo>
                  <a:pt x="0" y="493"/>
                  <a:pt x="152" y="991"/>
                  <a:pt x="157" y="1173"/>
                </a:cubicBezTo>
              </a:path>
            </a:pathLst>
          </a:custGeom>
          <a:noFill/>
          <a:ln w="44280">
            <a:solidFill>
              <a:srgbClr val="ff0000"/>
            </a:solidFill>
            <a:prstDash val="lgDash"/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1447920"/>
            <a:ext cx="2133720" cy="733320"/>
          </a:xfrm>
          <a:prstGeom prst="rect">
            <a:avLst/>
          </a:prstGeom>
          <a:solidFill>
            <a:srgbClr val="ff0000">
              <a:alpha val="19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tep Fathers –liked less than bio regardless of income o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0600" y="989280"/>
            <a:ext cx="838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’s Affection for Father – Father type by Sex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0880" y="25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778120"/>
          <a:ext cx="7753320" cy="1836720"/>
        </p:xfrm>
        <a:graphic>
          <a:graphicData uri="http://schemas.openxmlformats.org/drawingml/2006/table">
            <a:tbl>
              <a:tblPr/>
              <a:tblGrid>
                <a:gridCol w="78444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2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410080" y="4343400"/>
            <a:ext cx="76320" cy="1295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7120" y="5554800"/>
            <a:ext cx="3254400" cy="73332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ohab fathers are seriously disliked by female teens compared to other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03440"/>
            <a:ext cx="4324320" cy="1979640"/>
          </a:xfrm>
          <a:custGeom>
            <a:avLst/>
            <a:gdLst/>
            <a:ahLst/>
            <a:rect l="l" t="t" r="r" b="b"/>
            <a:pathLst>
              <a:path w="2724" h="1247">
                <a:moveTo>
                  <a:pt x="0" y="1246"/>
                </a:moveTo>
                <a:cubicBezTo>
                  <a:pt x="73" y="1063"/>
                  <a:pt x="44" y="300"/>
                  <a:pt x="439" y="150"/>
                </a:cubicBezTo>
                <a:cubicBezTo>
                  <a:pt x="834" y="0"/>
                  <a:pt x="2022" y="165"/>
                  <a:pt x="2373" y="348"/>
                </a:cubicBezTo>
                <a:cubicBezTo>
                  <a:pt x="2724" y="531"/>
                  <a:pt x="2509" y="1060"/>
                  <a:pt x="2544" y="124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724280"/>
            <a:ext cx="1295280" cy="330480"/>
          </a:xfrm>
          <a:custGeom>
            <a:avLst/>
            <a:gdLst/>
            <a:ahLst/>
            <a:rect l="l" t="t" r="r" b="b"/>
            <a:pathLst>
              <a:path w="816" h="208">
                <a:moveTo>
                  <a:pt x="0" y="48"/>
                </a:moveTo>
                <a:cubicBezTo>
                  <a:pt x="66" y="73"/>
                  <a:pt x="260" y="208"/>
                  <a:pt x="396" y="200"/>
                </a:cubicBezTo>
                <a:cubicBezTo>
                  <a:pt x="532" y="192"/>
                  <a:pt x="729" y="42"/>
                  <a:pt x="816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360" y="5065560"/>
            <a:ext cx="213588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les report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ffection fo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7760" y="5827680"/>
            <a:ext cx="275472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-dads are liked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ore, generally tha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114800"/>
            <a:ext cx="685800" cy="228600"/>
          </a:xfrm>
          <a:prstGeom prst="ellipse">
            <a:avLst/>
          </a:prstGeom>
          <a:solidFill>
            <a:srgbClr val="bbe0e3">
              <a:alpha val="1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81320" y="1560600"/>
            <a:ext cx="313740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-dads are liked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same as father-like 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17760" y="898200"/>
            <a:ext cx="665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Supports Mother – Father type by Age of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1120" y="2100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0600" y="2374920"/>
          <a:ext cx="8362800" cy="2093760"/>
        </p:xfrm>
        <a:graphic>
          <a:graphicData uri="http://schemas.openxmlformats.org/drawingml/2006/table">
            <a:tbl>
              <a:tblPr/>
              <a:tblGrid>
                <a:gridCol w="139392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of Ch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or ol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92040" y="4513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429000"/>
            <a:ext cx="609480" cy="9144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429000"/>
            <a:ext cx="609480" cy="9144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343400"/>
            <a:ext cx="457200" cy="7621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4343040"/>
            <a:ext cx="761760" cy="76212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257800"/>
            <a:ext cx="5486400" cy="916920"/>
          </a:xfrm>
          <a:prstGeom prst="rect">
            <a:avLst/>
          </a:prstGeom>
          <a:solidFill>
            <a:srgbClr val="ff0000">
              <a:alpha val="15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ens with bio, step, or cohab men in the house, see these men about equally in supporting their m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stru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ather 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ken from NLSY c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-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Father (adoptive or non-ado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ab (Mother’s resident boyfri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Like (A relative who is like a father to you-grandfather- unc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ster parents omit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asures of Father Involv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s and Respons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How much does he/s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know about your close friends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is, who they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How much does he/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our close friends' par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that is, who they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How much does he/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o you are with when you are not at ho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o your teachers are and what you are doing in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Index of Family Routines–Youth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n a typical week, how many days from 0 to 7 do you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at dinner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In a typical week, how many days from 0 to 7 do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ousework get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hen it is supposed to, for example cleaning up after dinner, doing dishes, or taking out the tr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In a typical week, how many days from 0 to 7 do you d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omething fun 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family such as play a game, go to a sporting event, go swimming and so f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In a typical week, how many days from 0 to 7 do you d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omething religio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s a family such as go to church, pray or read the scriptures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ild’s Affection for the father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 think highly of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e is a person I want to be l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really enjoy spending time with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ather Supports Mother (father involvement includes mother support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tem asked of youth Scores range from 0-24. Higher score is used to indicate that there is a stronger marital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ather Support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es he help you do things that are important to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dow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ousehold monthly incom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ather’s highest grad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ac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ex of Child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ild’s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5240" y="2346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68280" y="2085840"/>
          <a:ext cx="8408880" cy="2687760"/>
        </p:xfrm>
        <a:graphic>
          <a:graphicData uri="http://schemas.openxmlformats.org/drawingml/2006/table">
            <a:tbl>
              <a:tblPr/>
              <a:tblGrid>
                <a:gridCol w="1440000"/>
                <a:gridCol w="696960"/>
                <a:gridCol w="696600"/>
                <a:gridCol w="760680"/>
                <a:gridCol w="633240"/>
                <a:gridCol w="696960"/>
                <a:gridCol w="696960"/>
                <a:gridCol w="696960"/>
                <a:gridCol w="696960"/>
                <a:gridCol w="696600"/>
                <a:gridCol w="69696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groups re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LE $1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=$1501-3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2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0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=$3101-5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GT $5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9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6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05120" y="12952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 Monitors – Father Type by Income-NLSY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838440" cy="213372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048120"/>
            <a:ext cx="838080" cy="213336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895480"/>
            <a:ext cx="838080" cy="213372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00200" y="4952880"/>
            <a:ext cx="914400" cy="609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715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s men make more --- the are seen as doing more monitoring by their te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419720" y="502920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4100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owever, stepfathers monitor less—regardless of income, ed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5410080"/>
            <a:ext cx="3429000" cy="1143000"/>
          </a:xfrm>
          <a:prstGeom prst="rect">
            <a:avLst/>
          </a:prstGeom>
          <a:solidFill>
            <a:srgbClr val="ff0000">
              <a:alpha val="16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962520" cy="990720"/>
          </a:xfrm>
          <a:prstGeom prst="rect">
            <a:avLst/>
          </a:prstGeom>
          <a:solidFill>
            <a:srgbClr val="ff0000">
              <a:alpha val="16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143000"/>
            <a:ext cx="5638680" cy="1447920"/>
          </a:xfrm>
          <a:custGeom>
            <a:avLst/>
            <a:gdLst>
              <a:gd name="textAreaLeft" fmla="*/ 986760 w 5638680"/>
              <a:gd name="textAreaRight" fmla="*/ 4088160 w 5638680"/>
              <a:gd name="textAreaTop" fmla="*/ 193680 h 1447920"/>
              <a:gd name="textAreaBottom" fmla="*/ 1254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>
              <a:alpha val="20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80880"/>
            <a:ext cx="502920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ather-like figures are not statistically different from Bio-father –with regard to monitor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840" y="114156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880" y="237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2647800"/>
          <a:ext cx="7905600" cy="2097360"/>
        </p:xfrm>
        <a:graphic>
          <a:graphicData uri="http://schemas.openxmlformats.org/drawingml/2006/table">
            <a:tbl>
              <a:tblPr/>
              <a:tblGrid>
                <a:gridCol w="93672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4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2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9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3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pan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04920" y="454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962520"/>
            <a:ext cx="609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962520"/>
            <a:ext cx="609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962520"/>
            <a:ext cx="6098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3657600"/>
            <a:ext cx="53316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657600"/>
            <a:ext cx="533520" cy="1143000"/>
          </a:xfrm>
          <a:prstGeom prst="ellipse">
            <a:avLst/>
          </a:prstGeom>
          <a:solidFill>
            <a:srgbClr val="ff00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715000"/>
            <a:ext cx="5334120" cy="916920"/>
          </a:xfrm>
          <a:prstGeom prst="rect">
            <a:avLst/>
          </a:prstGeom>
          <a:solidFill>
            <a:srgbClr val="ff0000">
              <a:alpha val="15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lack fathers were reported to have monitored less than  White- especially if he is a step or cohab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62320" y="4724280"/>
            <a:ext cx="8380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657600" y="4267080"/>
            <a:ext cx="15228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429000"/>
            <a:ext cx="3733920" cy="12193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5280" y="4913280"/>
            <a:ext cx="413064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 dads were reported to have  monitored more than the other 3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934320" y="4419720"/>
            <a:ext cx="914400" cy="838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657600"/>
            <a:ext cx="838440" cy="838080"/>
          </a:xfrm>
          <a:prstGeom prst="ellipse">
            <a:avLst/>
          </a:prstGeom>
          <a:solidFill>
            <a:srgbClr val="bbe0e3">
              <a:alpha val="24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8040" y="17128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8040" y="1712880"/>
            <a:ext cx="550224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hite cohabs monitor much more than Black or Hisp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209680"/>
            <a:ext cx="20574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7:35:02Z</dcterms:created>
  <dc:creator>rdd23</dc:creator>
  <dc:description/>
  <dc:language>en-US</dc:language>
  <cp:lastModifiedBy>Hoda Makar</cp:lastModifiedBy>
  <dcterms:modified xsi:type="dcterms:W3CDTF">2003-11-10T17:24:4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0406128</vt:r8>
  </property>
  <property fmtid="{D5CDD505-2E9C-101B-9397-08002B2CF9AE}" pid="3" name="_AuthorEmail">
    <vt:lpwstr>day@byu.edu</vt:lpwstr>
  </property>
  <property fmtid="{D5CDD505-2E9C-101B-9397-08002B2CF9AE}" pid="4" name="_AuthorEmailDisplayName">
    <vt:lpwstr>Randal D. Day</vt:lpwstr>
  </property>
  <property fmtid="{D5CDD505-2E9C-101B-9397-08002B2CF9AE}" pid="5" name="_EmailSubject">
    <vt:lpwstr>Day-Session6</vt:lpwstr>
  </property>
  <property fmtid="{D5CDD505-2E9C-101B-9397-08002B2CF9AE}" pid="6" name="_ReviewingToolsShownOnce">
    <vt:lpwstr/>
  </property>
</Properties>
</file>